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240-4DE3-46ED-9FFF-BE02DF3B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FF1-90BF-4428-891A-9CD4DFC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418-EC6B-4FE3-A086-70091DFB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C12-960C-46E2-B431-A5CB0FA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BB9-C195-41DC-8318-E14E37DD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5D7-4339-41DE-9DF4-27763A0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157-ADC7-4D0A-927F-6E08D041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00D-A622-41D3-B709-C1FD870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063-397A-41C6-BAD6-D3C7A2B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11A-7EF9-41FC-90F8-8D53D3D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7AA-81E9-4419-B33C-EBD45C82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715-C43C-4B39-85A1-710DE58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846-111A-41D5-B473-3243B548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50 years of extreme minimum temperature indicate climate chang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580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NOAA weather st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6846120" y="10666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sh, Tracy, Ja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hart 7" descr=""/>
          <p:cNvPicPr/>
          <p:nvPr/>
        </p:nvPicPr>
        <p:blipFill>
          <a:blip r:embed="rId1"/>
          <a:stretch/>
        </p:blipFill>
        <p:spPr>
          <a:xfrm>
            <a:off x="146160" y="1365120"/>
            <a:ext cx="88516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533520" y="533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lear trend that is displayed by this data set, 50 years of data cannot indicate climate change because the time range is too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33520" y="41148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1,000 years of data indic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Jaime Tardif</cp:lastModifiedBy>
  <dcterms:modified xsi:type="dcterms:W3CDTF">2009-01-14T23:20:21Z</dcterms:modified>
  <cp:revision>10</cp:revision>
  <dc:subject/>
  <dc:title>PowerPoint Presentation</dc:title>
</cp:coreProperties>
</file>